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73C-7E62-47EE-880E-B633EF5E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3E4-C75A-4C72-A017-B28D48D2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CD7-3F67-4017-9781-D0F5DBA6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696-1E92-4190-B4AB-B1C63659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5DEC-F03A-4D47-BABF-703E2971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C813-424A-4E4D-9A49-DD8710E7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5CC5-B7EA-447C-BF72-EC52F703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EC19-EB70-4135-8061-150CCE37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0FC7-6CE7-4E11-B5C0-26C453FE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A62D-22CA-4419-95CD-EA0AA25B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8D47-CA40-4679-847F-680453A2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E69-4A0A-4DFC-87ED-16CECA74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F16C-1918-4B96-A5A2-A2B20321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9916-F9F7-4511-B912-2AD40BC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8943-1E14-480C-978E-549B0E55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03E1-F036-4DB0-90F5-88A933AA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71F2-C8EA-422F-B5E8-7A4690AD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EB8-6BA9-443B-90A3-4442FD03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F51-3C7A-4C90-9705-C7A98B7C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43C-5AC2-4243-9704-3F6E8350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AFC-6DBA-4717-BBD2-D688FF7B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054-4C86-4F19-835C-B3A951D3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CEE-EC82-47F6-9371-19A86C83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644-F3C3-41B7-8F86-291CA01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F9E1-4632-41FE-A1B8-2B86E618C5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45E6-E605-4DE6-B29F-CEBAA8D9E2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it 1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i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m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c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ma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i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dep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raf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gr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f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derst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zz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ntas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kilful (skillfu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ntes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gic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app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zz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tisf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team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ie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eba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mp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ortsto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attitu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a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orebo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-o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udspeak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gh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ubho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efr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pbo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outlo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oughho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mpi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ep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scrim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rterba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uchd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igh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ca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foss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re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v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s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nci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u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a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ncip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stra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verd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station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sista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n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r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mp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rtain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rrig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-o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ur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r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i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itu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ca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tisf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phab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tt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bra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ach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anch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g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ousa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dr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e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mse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ntu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nounc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ctiona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ngua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brar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u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okshe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es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’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al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g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y’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ayer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udent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feree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otba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cc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oalie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j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ould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udent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’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ayer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s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ponent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t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ess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ld’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ate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quad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hib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i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  <a:ea typeface="Arial"/>
              </a:rPr>
              <a:t>dial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s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buClr>
                <a:srgbClr val="ffffff"/>
              </a:buClr>
              <a:buFont typeface="Arial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er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buClr>
                <a:srgbClr val="ffffff"/>
              </a:buClr>
              <a:buFont typeface="Arial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nefi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tifi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90680"/>
          <a:ext cx="3809880" cy="4827600"/>
        </p:xfrm>
        <a:graphic>
          <a:graphicData uri="http://schemas.openxmlformats.org/drawingml/2006/table">
            <a:tbl>
              <a:tblPr/>
              <a:tblGrid>
                <a:gridCol w="907920"/>
                <a:gridCol w="2901960"/>
              </a:tblGrid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uldn'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ee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u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wner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fi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e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auti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ce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adc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ve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ertis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pe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ftn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mus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gli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ndl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ware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rgu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ucki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zzi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lourfu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ransmi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ssign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tionl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videotap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t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y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s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tisfy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llust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ac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llustra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e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uck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n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r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log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otocop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ndic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rrif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tisf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dr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iend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i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hib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rgu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ntu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es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ract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ri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verti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phab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g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llustr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auti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g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feree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nit 19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l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ut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amm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agg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fer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t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d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me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ipp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gin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n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abb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mi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ge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aphrag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er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velop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llumina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o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le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lar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nect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n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re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pup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u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v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o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3. stro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4. mig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. wid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6. st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7. esca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8. priz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9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mig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. cyc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1. frag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2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metamorph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3. spec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4. pupa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nad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m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i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s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ufa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gr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nqu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garl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lec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c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n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c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r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eric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nt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xic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comme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n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init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uarant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pperm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rch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ltip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lu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nd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rr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l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posi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im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t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ecu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zz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amo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l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lit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w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r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ick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ys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lli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unn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ill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ol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era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vinc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dent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tahedr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ag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r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at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s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t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g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mpi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tt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nk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ta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nk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gg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ain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rk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chniq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ll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ngth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ut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nqu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w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ta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ufa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at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amo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rup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nk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lli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gin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ge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c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ll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ys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lu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ge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ar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eas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si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gno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thl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sh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eat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ash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spon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v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for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ll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lt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ge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eg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mor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uxu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min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lamm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rag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rv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errif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lea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re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fu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humor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fail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ia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ess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myste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ign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or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rama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e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omes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u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ian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octa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acous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ambit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ourage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ei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pa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t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refo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vant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nd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ri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r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abo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tun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ress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t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ccas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ugg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or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gress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n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us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b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ff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co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co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n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a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d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mi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str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ribu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d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rv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a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pet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nov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9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ienti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l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va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o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o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m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li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tro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arthqua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u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ag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e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sp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gne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i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ca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in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twe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propel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ee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a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sh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le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fre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cur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3. disp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4. real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. sl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6. hur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7. w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8. b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9. eigh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. mainte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1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terr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2. hovercraf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3. reason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4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velo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it 29 – Adventures With Word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 2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o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v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4724280" y="1676520"/>
            <a:ext cx="3962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ri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co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ll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si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ge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pa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ste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co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eas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tro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e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rrif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ge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r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stit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fe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mar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lai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tra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ns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ru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fe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esebur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stand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pt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ishon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o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exci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isappo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popu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ei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ravell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au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is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p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cou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ic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e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a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ol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ches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believ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fortunat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qualifi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obed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t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e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gr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ppe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ntas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nde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g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hy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wri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p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den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hyth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i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f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adju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ssion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employ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enn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al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ighb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wfound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e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kn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z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ine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ga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r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dmont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grace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happi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epen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ederict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natu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cre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uv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urna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ru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s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i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hy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appo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exci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music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or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ine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indepen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au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he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o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ighb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li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v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lo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e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w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o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e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lie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w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ho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e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igh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t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oapst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culp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rrow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ght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ef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ax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i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ol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d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to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nuis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o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v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i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o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h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g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r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l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ud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portun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newslet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pursu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p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ofre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al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uis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ur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e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ct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e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1. beli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2.frigh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3.on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4.wh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.bom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6.esca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7.w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8.b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9. thr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. ch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orb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par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ark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mu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i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rd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r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gn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or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bsor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w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war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te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astronom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mourn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nstell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ert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rg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an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r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ser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irrig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rtain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tt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r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ur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wir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bur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oa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atte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rrow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rviv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noctur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quir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9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noy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own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o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we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ploy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vo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wer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i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ck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ng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ou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o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joy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oin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nd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o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yal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ycot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ow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8</cp:lastModifiedBy>
  <dcterms:modified xsi:type="dcterms:W3CDTF">2011-12-11T18:01:1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